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B34-213F-4D36-B17A-9D61A21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5B8-4A82-44B6-BFC6-EDA7712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DAF-43AE-4EF3-B483-22AB6CA8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4AB-E078-40B9-A322-390823AC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929-C13C-410D-8A8C-00E15FAD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A99-9A92-4941-ACEA-1594E4D8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04E-43F0-4078-A9DB-6D0DFE46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7F6-7650-4E26-BF88-BA1CF42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75F-DFA2-4AE4-8002-74E0CC0E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308-A3ED-40B0-B0A4-D9074C06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7A5-34D8-4F74-849B-5AA9B9D8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9E5-8FAB-40E6-8268-4A87095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BDD7-595A-4D44-853E-F83B47866DD8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541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00"/>
                </a:solidFill>
                <a:uFillTx/>
                <a:latin typeface="Tahoma"/>
                <a:cs typeface="Diwany6 Normal"/>
              </a:rPr>
              <a:t>نشيد الدخول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Tahoma"/>
                <a:cs typeface="Tahoma"/>
              </a:rPr>
              <a:t>يا أول النب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437000"/>
            <a:ext cx="83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21300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060640"/>
            <a:ext cx="5867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ّة بهالزمان دخلت عا قلبي وغمرني نورك ورحل النسي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916280"/>
            <a:ext cx="50036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ضحكِة عينيّي وصّل صداه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عند السم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فرح الجنّ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508640"/>
            <a:ext cx="8388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70828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11-28T23:10:22Z</dcterms:modified>
  <cp:revision>8</cp:revision>
  <dc:subject/>
  <dc:title>Slide 1</dc:title>
</cp:coreProperties>
</file>